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6E2C-3F61-4EB9-B394-E1CDE73B228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8E4D-4264-4E38-A160-E1B8CA6350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0283-A7EA-4F83-B396-8D99B067F8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941B-8976-4167-8508-09DCEE8D7C2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5BBF-1CE9-4A7F-81A6-57009B49E7A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F46F-F1A1-4D5C-A226-962D7F4728E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046-04B9-4018-9FE6-4A2D8D30204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D976-88D2-4C4B-B063-0378A462168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2EA8-F3A7-4A04-878D-629F57A48B3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CF22-60F2-4DD6-8876-E02342ECFC5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0B20-8CEF-43AC-BF31-1D54FDE02C9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2691-2431-43F3-90EF-B91CFB8BEBB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572F-CCA0-4A5C-9F55-CA2F622EC78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4AE-338D-40CF-80CD-A0635DBF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F1E-90B1-41FB-B027-3CE1B541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4DB-451A-4D2E-8CC9-3F6DA634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4C5-0AD9-43EB-AB4D-C3F719FF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C395-C4F8-46D3-897D-8CC2F21B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0B02-3714-4290-B7C7-1AF8360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D21-1F78-4835-B066-6D30238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CCB-17D2-4379-A3D2-1E8919BF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9C7D-8FF7-4171-843B-A560955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BBD3-16AE-48D8-8431-4DDA898E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7639-CC31-4914-AF8B-9D8D3FE0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F80-C811-46E1-BF8F-DD85FA0E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BF3B-7C65-463F-9173-0DB91378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526D-F363-414A-ADC3-2A6F3A8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AB46-A07B-416E-BFF9-96A25B63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6D8B-D40C-4948-BA33-CF76224D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ABFC-E5D8-4077-85D6-7FDA6F51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823D-69F9-4E17-B7B4-ECECE58F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19C87-5DE6-43D4-9D3B-180F2B84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7514-DD06-4FDD-B655-56E87A9F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E3BF-3C66-4401-B721-9C007D9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1ABD-7F7D-4281-9116-D142E710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323-801B-4968-B4FB-47ED768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D3D4-2B34-4BF8-9687-9551B0E1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4D6D-280E-4AF3-BA9E-FF7DBB45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BDE9D-664C-4822-B0FD-849A9C9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D65D-9C03-482F-A301-6EF0FCAB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9F92F-8B35-4F61-B562-95E145B2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25BF-CFB3-4C83-9B69-760A569D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ED2E-2305-43D2-B34B-6FD15663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66AB-A630-410D-ACAF-6941225A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C305-085F-4442-85B3-08A298A1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7F187-0D5D-4052-ADDA-596B1919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8E0-82BD-4F98-9C19-8AA4E329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83FE-9AB6-4F38-97DE-D17D0F7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83FE-C8E8-444F-8958-F22FDBF1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D2BD-F6AF-4713-B56B-9C600DC0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86CF8-131B-4516-A9CD-92E9477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4818-ACB4-4066-AFFB-A2179D02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BC710-1C0C-4AB3-ABBD-75E1BFD5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BC8A-D458-4A4F-B90F-E278C4F4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037C-327D-4CB3-8E7B-E918426A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E8C6-AC8C-4EF0-A6B5-AB8D0EDB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021-8412-48B0-91C9-C985F9F9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63F-EFA8-48DC-9F0B-76EBF25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983-810E-46F9-A93C-B8EC1B85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CE3-2D26-4928-86A9-63655DC1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DAE-18AB-4D9F-AE5D-0CFB4879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576F-DF51-4B4B-AF5F-B0E9D58B8E6B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D7A-F53C-4E34-8EDE-74595D90A441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3B1C-08D1-4E23-89B6-9D5EF651958D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0F8-44DD-4005-A9C2-DDC5BC834CA8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56CA-1D2B-422A-88C5-2105F9EE60A0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F7C2-9A9E-49D1-BA6A-97AE2336B75C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AF8C-3DA5-4486-B59C-2E494DC7C9D7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4D86-B4ED-4599-98B8-A8EFF24CAB24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298440"/>
            <a:ext cx="7351920" cy="1322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igned work: pg. 433 #1-1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Equation of a line – slope and point or two poi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BUT NOW we will learn to describe an Equation of a Line by using vectors…………………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2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) Determine the y-intercept of the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y int (x=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7" name="Object 2"/>
          <p:cNvGraphicFramePr/>
          <p:nvPr/>
        </p:nvGraphicFramePr>
        <p:xfrm>
          <a:off x="2793960" y="2859120"/>
          <a:ext cx="226872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960" y="2859120"/>
                    <a:ext cx="226872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arametric equations of a line can be used to find a third form of an equation call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ymmetric Equation of a Line in a Plan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t eliminates the parameter from the parametric equ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2268360" y="4076640"/>
          <a:ext cx="3167280" cy="13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4076640"/>
                    <a:ext cx="316728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3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symmetric equation of the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 the symmetric equation i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5" name="Object 2"/>
          <p:cNvGraphicFramePr/>
          <p:nvPr/>
        </p:nvGraphicFramePr>
        <p:xfrm>
          <a:off x="2124000" y="3068640"/>
          <a:ext cx="381636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068640"/>
                    <a:ext cx="381636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"/>
          <p:cNvGraphicFramePr/>
          <p:nvPr/>
        </p:nvGraphicFramePr>
        <p:xfrm>
          <a:off x="5796000" y="2349360"/>
          <a:ext cx="237636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349360"/>
                    <a:ext cx="237636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5580000" y="4506840"/>
          <a:ext cx="2160720" cy="10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4506840"/>
                    <a:ext cx="21607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ctor Equation of a Line in a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17"/>
          <p:cNvGraphicFramePr/>
          <p:nvPr/>
        </p:nvGraphicFramePr>
        <p:xfrm>
          <a:off x="1619280" y="2781360"/>
          <a:ext cx="36003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781360"/>
                    <a:ext cx="36003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0"/>
          <p:cNvGraphicFramePr/>
          <p:nvPr/>
        </p:nvGraphicFramePr>
        <p:xfrm>
          <a:off x="1763640" y="4437000"/>
          <a:ext cx="369576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4437000"/>
                    <a:ext cx="36957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vectors and variables from the previous slide are defined below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2556000" y="2492280"/>
          <a:ext cx="518292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492280"/>
                    <a:ext cx="51829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 direction vecto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can give the magnitude of the slope of a lin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ny parallel vector to a line has a direction vector that is the same or scalar multiple of the direction vector in the given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2771640" y="2421000"/>
          <a:ext cx="122400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21000"/>
                    <a:ext cx="1224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2411280" y="2708280"/>
          <a:ext cx="16560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708280"/>
                    <a:ext cx="16560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1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vector equation of the line that passes through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oints A(3,4) and B(7,2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slope of the lin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1692360" y="2927520"/>
          <a:ext cx="468000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7520"/>
                    <a:ext cx="46800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24" name="Straight Arrow Connector 10"/>
          <p:cNvCxnSpPr/>
          <p:nvPr/>
        </p:nvCxnSpPr>
        <p:spPr>
          <a:xfrm flipH="1">
            <a:off x="2987280" y="3789360"/>
            <a:ext cx="50544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225" name="Object 5"/>
          <p:cNvGraphicFramePr/>
          <p:nvPr/>
        </p:nvGraphicFramePr>
        <p:xfrm>
          <a:off x="5076720" y="5805360"/>
          <a:ext cx="10080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805360"/>
                    <a:ext cx="1008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) Determine a different point on the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(just choose any value for t 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When t = 1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2411280" y="3716280"/>
          <a:ext cx="628812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716280"/>
                    <a:ext cx="62881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is vector equation can be used to describe a line in terms of its components. An equation written in terms of its components is called the…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arametric Equation of a Lin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2195640" y="4221000"/>
          <a:ext cx="482436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221000"/>
                    <a:ext cx="482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2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 line passes through the point P(-1,1) and has a direction vect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tate the parametric equation of the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2124000" y="4076640"/>
          <a:ext cx="41274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076640"/>
                    <a:ext cx="41274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4"/>
          <p:cNvGraphicFramePr/>
          <p:nvPr/>
        </p:nvGraphicFramePr>
        <p:xfrm>
          <a:off x="1403280" y="2349360"/>
          <a:ext cx="136836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349360"/>
                    <a:ext cx="1368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1 Parametric &amp; Vector Equations of 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2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b) Does the point (-4,1) lie on the lin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(*****if it does (-4,1) will produce the same parameter for both compone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heck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ince parameter is NOT the same for both components, the point DOES NOT lie on the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2095560" y="3789360"/>
          <a:ext cx="366372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3789360"/>
                    <a:ext cx="3663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14T02:55:38Z</dcterms:modified>
  <cp:revision>232</cp:revision>
  <dc:subject/>
  <dc:title>2.2 Derivatives of Polynomial Functions</dc:title>
</cp:coreProperties>
</file>